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4D5-0217-4371-88B4-87DEA7E9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2040" y="350064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F5D-3E89-42C5-9DDF-4D3883EF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A9C-B3E9-4A01-9A87-72065E54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876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548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9204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876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548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20F-2ABD-4AD4-B598-77930EA7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7647-C640-43E0-8C22-29887175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AD0E-8BA2-4600-8D73-AF2A883A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59AD-3383-4EE8-8F5D-D3C778A0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DE9A-B437-4186-80B6-259C64FC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9AF9-D371-499F-9F18-9DECE168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2040" y="279360"/>
            <a:ext cx="8359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106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33F0-2C35-42F9-B2DD-05CDBAAE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2E07-C958-4574-BD59-B17D87C6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B91-7BFC-4A50-A523-8CBE408C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6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C57C-2075-4B5B-B928-2A9A22C4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B65E-ABE3-49C6-BA76-D0373D4F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040" y="350064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8799-ED0B-4BA6-8AED-6BFA2474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6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5A0A-D4BD-43AC-8C9F-2C2C65AC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76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5480" y="131256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204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76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5480" y="3500640"/>
            <a:ext cx="2691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91AB-3B1B-4A62-A98C-94412803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F74-D8A6-4954-BE1F-43EB193B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208-9224-468C-8B26-1EE9BCC2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BD4-869D-4BF8-B23E-66B312DB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2040" y="279360"/>
            <a:ext cx="8359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106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F36-1CCD-481E-AF8B-E463952B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ABA-8961-4C6B-AB4E-1EBC8BE0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0064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AF3-0393-48B7-84D1-F4C9DD8F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312560"/>
            <a:ext cx="40795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2040" y="3500640"/>
            <a:ext cx="83599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88F-0F09-4847-A3FC-C10C8D8A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4188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257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829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829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82960" indent="-254160"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031840" y="6578280"/>
            <a:ext cx="5080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99920" y="571464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EB5B-0930-4903-8466-1943BBC92626}" type="datetime"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24120" y="6568920"/>
            <a:ext cx="508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XP Semiconductors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darshan H N 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ruary 1,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567480" y="6394320"/>
            <a:ext cx="184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8360" y="6387840"/>
            <a:ext cx="3175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BF27-F881-4C80-8614-2C6193D60054}" type="slidenum">
              <a:rPr b="0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 hidden="1"/>
          <p:cNvSpPr/>
          <p:nvPr/>
        </p:nvSpPr>
        <p:spPr>
          <a:xfrm>
            <a:off x="2031840" y="6578640"/>
            <a:ext cx="5080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 hidden="1"/>
          <p:cNvSpPr/>
          <p:nvPr/>
        </p:nvSpPr>
        <p:spPr>
          <a:xfrm>
            <a:off x="800280" y="571500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CF4E-4C82-4876-8075-02F8071454A2}" type="datetime">
              <a:rPr b="0" lang="de-DE" sz="19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rcRect l="0" t="26942" r="79441" b="13471"/>
          <a:stretch/>
        </p:blipFill>
        <p:spPr>
          <a:xfrm>
            <a:off x="171360" y="6243480"/>
            <a:ext cx="1416240" cy="55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80680" y="3411000"/>
            <a:ext cx="6892920" cy="10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2031840" y="6578280"/>
            <a:ext cx="5080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5"/>
          </p:nvPr>
        </p:nvSpPr>
        <p:spPr>
          <a:xfrm>
            <a:off x="799920" y="571464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D37C-1E7B-47D6-A66A-6303135364E6}" type="datetime"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578800" y="6578280"/>
            <a:ext cx="3175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25BA-4A6E-4432-B20E-58BE2982CE03}" type="slidenum">
              <a:rPr b="0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956720" y="5969160"/>
            <a:ext cx="761760" cy="469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063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99920" y="476208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5000"/>
              </a:lnSpc>
              <a:spcBef>
                <a:spcPts val="106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7280" y="497196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57280" y="523872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57280" y="550548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5320" y="4944960"/>
            <a:ext cx="7543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darshan H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XP Semicond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,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125360" y="3094200"/>
            <a:ext cx="689328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 Modeling of USB Buffers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33640" y="3652920"/>
            <a:ext cx="40575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r description in IBI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2040" y="1071720"/>
            <a:ext cx="858672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B Differential receiver can be correctly modeled only if the value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Mode Voltage Range (CMV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sensitivity (Dif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specified (Section 7.1.4.1 of USB 2.0 Spec docu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ddition Single ended receivers has to be described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6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6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stersis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31640" y="2657520"/>
            <a:ext cx="8396280" cy="179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D84-B3C5-4D8B-B231-711E328E00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47C9926-8F0A-4535-BA20-68E5A888E3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1680" y="279000"/>
            <a:ext cx="80931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Receiver Thresholds]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2040" y="906120"/>
            <a:ext cx="83599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Receiver Thresholds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for a  differential recei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ross_low = 0.8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USB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ross_high = 2.5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USB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ff_ac = +2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ff_dc =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iffslew_ac =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Receiver Thresholds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or a  single ended receiv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x+, Rx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th = 1.4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h_ac = +0.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h_dc = +1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l_ac = -0.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l_dc = -1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5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lew_ac = 1.2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Possible to define [Receiver Thresholds] for both Single ended and differential receivers in a single model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35640" y="1625760"/>
            <a:ext cx="114120" cy="672840"/>
          </a:xfrm>
          <a:custGeom>
            <a:avLst/>
            <a:gdLst>
              <a:gd name="textAreaLeft" fmla="*/ 0 w 114120"/>
              <a:gd name="textAreaRight" fmla="*/ 41040 w 114120"/>
              <a:gd name="textAreaTop" fmla="*/ 17280 h 672840"/>
              <a:gd name="textAreaBottom" fmla="*/ 65556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1181160"/>
            <a:ext cx="88920" cy="749160"/>
          </a:xfrm>
          <a:custGeom>
            <a:avLst/>
            <a:gdLst>
              <a:gd name="textAreaLeft" fmla="*/ 0 w 88920"/>
              <a:gd name="textAreaRight" fmla="*/ 32040 w 88920"/>
              <a:gd name="textAreaTop" fmla="*/ 19440 h 749160"/>
              <a:gd name="textAreaBottom" fmla="*/ 729720 h 74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47520" y="1413000"/>
            <a:ext cx="12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EDC-D11F-42AB-96A6-615C027E8A3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C418227-C6F8-4EDC-BA87-CF4F2BEF63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sue !!!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2040" y="982800"/>
            <a:ext cx="83599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43720" indent="0">
              <a:lnSpc>
                <a:spcPct val="5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has to support both Single ended and differential modes for correct modeling of U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3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ingle ended 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Vinl, V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Differential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: Vdiff for Input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ross_low and Vcross_high for CM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from the Cookboo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65000"/>
              </a:lnSpc>
              <a:spcBef>
                <a:spcPts val="15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ifferential Input or I/O model types, the differential input threshold (vdiff) overrides and supersedes the need for Vinh and Vin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72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[Model Type] has to be created in IBIS specification which can handle both single ended and differential ended operation for USB kind of buff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CC6-FDBE-4DD6-B372-845C6BC377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FB04F7-0101-48F8-ABD1-F414084687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 Contd.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2040" y="1083960"/>
            <a:ext cx="85759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GND Clam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ower Clamp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ullup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ising Wavefor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alling Wavefor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USB_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GND Clam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ower Clamp]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ullup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ising Wavefor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alling Wavefor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3720960"/>
            <a:ext cx="254160" cy="825480"/>
          </a:xfrm>
          <a:custGeom>
            <a:avLst/>
            <a:gdLst>
              <a:gd name="textAreaLeft" fmla="*/ 0 w 254160"/>
              <a:gd name="textAreaRight" fmla="*/ 91800 w 25416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8200" y="3906720"/>
            <a:ext cx="67878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these 4 tables are same as that of [Model] USB_IOP_FS. Can we avoid this duplic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67F-41CF-481D-8DF4-AE0DF9557E1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FB76BF2-581E-4D77-804D-8887010433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cessity to avoid this duplic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GND Clamp], [Power Clamp] , [Pulldown] , [Pullup] - each has 3 tables corresponding to typ, min and max corn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totally 4*3 = 12 simulations required to generate these 4 t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simulation may take 1-2 min(appro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if we avoid these simulations it will effectively reduce ~ 30 mins for one model gen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ways to do this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y IBIS generating tools to intelligently put the same data for the two [Model] ‘s by simulating only o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new IBIS specification which avoids tables in the duplicated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ethod is preferable as it reduces the redundancy of data and thereby the file si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473-896C-423D-B7A1-F091FA427C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7AF1D24-F400-4AB9-A218-2F1028300D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posal to reduce this dupl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6480" y="880560"/>
            <a:ext cx="83725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utting model names in front of the curve n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SB_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ND Clamp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ower Clamp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up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ising Wavefor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Falling Wavefor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SB_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ND Clamp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ower Clamp]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down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up]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SB_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ising Wavefor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Falling Wavefor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6F3-CC2D-417F-894A-84C4699D31B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FE0F160-2278-4C6A-992F-C7F7EC5A35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ication of USB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B Topolo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162320" y="1179360"/>
            <a:ext cx="4581720" cy="46580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84280" y="2890800"/>
            <a:ext cx="3448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strea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3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strea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3EA-AC87-42B9-BBFF-B9C7B1D56DA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770D4ED-CE3A-4A05-B412-94CF661469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w Speed USB Model in Upstream Mod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20840" y="1592280"/>
            <a:ext cx="4733640" cy="392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410080" y="1976400"/>
            <a:ext cx="296064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Test Load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ref = 1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ref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f = 100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eas = 1.6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563-255D-4390-A5F1-8454F87266C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8DC08F7-7B85-45E3-8565-D44DC1FCB7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w Speed USB Model in Downstream Mod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44600" y="1490760"/>
            <a:ext cx="4735440" cy="4046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511960" y="1951200"/>
            <a:ext cx="296064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Test Load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ref = 1.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ref = 3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f = 400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1125"/>
              </a:spcBef>
              <a:buClr>
                <a:srgbClr val="fab4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eas = 1.6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66A-112D-40E2-8B4D-8ABB083A65C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7ADAE83-E47E-45A4-8CAE-61A316CE0D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me Model should work in 2 applications 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2040" y="1312920"/>
            <a:ext cx="835992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cell is in low speed mode,  there will be no difference in I-V or V-t curves between upstream and downstream modes and hence there is only one model def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same model has to cater to 2 kinds of applications with varying Vref, Rref and Cr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with the single [Model]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of same model with different names for upstream and downstream,  with models varying in their Vref, Cref, &amp; Rref can be done. But it will result in redundancy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community can look into this 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41E-1F97-4EAF-989A-A0B833001B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308D7FA-9FB5-4124-B0DC-48103DECF9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2040" y="1312560"/>
            <a:ext cx="8359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 of U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on of USB IBI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view of USB IBIS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/Sugg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17D-A20F-4A38-97FD-117BA9A353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10C20E8-F47B-4424-ADED-1ACC5F7A3A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2040" y="931680"/>
            <a:ext cx="835992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9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 has 2 complementary single ended drivers , 2 complementary single ended receivers and a differential receiver with full swing signa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to model both single ended and differential receiver in IBIS in a singl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al : IBIS has to provide new specification to support this type of buff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ull speed model and low speed models both have same driver characteristics, simulating the model for these curv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i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al : IBIS can support new specifications as suggested to reduce the time required in  model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same model should cater to 2 kinds of applications with varying Vref, Cref &amp; Rref it is not possible with single IBIS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541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al : There should be an option to override the default values of Rref, Cref and Vref when using IBI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32C-B53E-4685-B985-263DEF6F86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317FA89-3041-4A9E-9B6D-8273C0F3FD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4640" y="1198440"/>
            <a:ext cx="835992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Serial Bus Revision 2.0 specificatio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usb.org/developers/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in USB Consumer Applications by Eva Murphy  &amp; Padraig Fitzgerald , Analog Devices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analog.com/library/analogDialogue/archives/40-01/usb_swit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4.2 Specification Document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vhdl.org/pub/ibis/ver4.2/ver4_2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Cookbook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vhdl.org/pub/ibis/cookbook/cookbook-v4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IBIS models and IBIS model making by Arpad Muranyi at Intel Corp. Nov. 3 &amp; 4, 2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ing for High Speed Designs by Dr. Lynne Green - JEDEX 2004 IBIS Workshop, April 16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012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s @ 1.25GHz and Beyond by Bob Haller, Barry Katz, Kevin M. Fisher - DESIGNCON EAST June 23, 2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8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1BE-53D3-4B0B-8127-375E89DE8F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6248701-47CE-46F1-8767-9AF278C379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1680" y="1312560"/>
            <a:ext cx="41036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465000"/>
              </a:lnSpc>
              <a:spcBef>
                <a:spcPts val="101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465000"/>
              </a:lnSpc>
              <a:spcBef>
                <a:spcPts val="1012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465000"/>
              </a:lnSpc>
              <a:spcBef>
                <a:spcPts val="1012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548160" y="1147680"/>
            <a:ext cx="664920" cy="1560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618080" y="3114720"/>
            <a:ext cx="187812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98680" y="4632480"/>
            <a:ext cx="136548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DF3-43CC-456E-8AC3-93E0355866BD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D5D6D3F-E078-4CCA-A766-8E245E9852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68800"/>
            <a:chOff x="0" y="0"/>
            <a:chExt cx="9144000" cy="6868800"/>
          </a:xfrm>
        </p:grpSpPr>
        <p:sp>
          <p:nvSpPr>
            <p:cNvPr id="211" name=""/>
            <p:cNvSpPr/>
            <p:nvPr/>
          </p:nvSpPr>
          <p:spPr>
            <a:xfrm>
              <a:off x="0" y="0"/>
              <a:ext cx="9144000" cy="6868800"/>
            </a:xfrm>
            <a:prstGeom prst="rect">
              <a:avLst/>
            </a:prstGeom>
            <a:solidFill>
              <a:srgbClr val="f9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10320" y="0"/>
              <a:ext cx="2533680" cy="6868800"/>
            </a:xfrm>
            <a:prstGeom prst="rect">
              <a:avLst/>
            </a:prstGeom>
            <a:solidFill>
              <a:srgbClr val="c9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6880" y="0"/>
              <a:ext cx="2516040" cy="6868800"/>
            </a:xfrm>
            <a:prstGeom prst="rect">
              <a:avLst/>
            </a:prstGeom>
            <a:solidFill>
              <a:srgbClr val="7bb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8520" y="0"/>
              <a:ext cx="699840" cy="6868800"/>
            </a:xfrm>
            <a:prstGeom prst="rect">
              <a:avLst/>
            </a:prstGeom>
            <a:solidFill>
              <a:srgbClr val="7b8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37160" y="0"/>
              <a:ext cx="1258920" cy="6868800"/>
            </a:xfrm>
            <a:prstGeom prst="rect">
              <a:avLst/>
            </a:prstGeom>
            <a:solidFill>
              <a:srgbClr val="58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4E9-2753-4BD0-96D2-B6AE19DD9201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B18D778-7E28-44EA-87B6-64C7E62744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6680" y="1592280"/>
            <a:ext cx="564336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special in USB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ended and Differential Receivers connected to the same nod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161040" y="1349280"/>
            <a:ext cx="2409840" cy="2197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6040" y="3546360"/>
            <a:ext cx="570060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105000"/>
              </a:lnSpc>
              <a:spcBef>
                <a:spcPts val="24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problem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149-B341-4DB1-AB5D-813D03D8CFC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E90DB85-1DDA-49A1-8107-3E70539118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s of USB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92040" y="906480"/>
            <a:ext cx="8562960" cy="5040360"/>
            <a:chOff x="392040" y="906480"/>
            <a:chExt cx="8562960" cy="50403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392040" y="906480"/>
              <a:ext cx="856296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392040" y="906480"/>
              <a:ext cx="8562960" cy="50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254160" indent="-254160">
                <a:lnSpc>
                  <a:spcPct val="10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ECC-B66E-4419-A3CF-03CF986116C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2657E49-C46F-4CB3-9DEB-C40A6CE0BB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040" y="1312920"/>
            <a:ext cx="85629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228920" y="1104840"/>
            <a:ext cx="53316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317840" y="3619440"/>
            <a:ext cx="53316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2806920" y="1612440"/>
            <a:ext cx="53316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768400" y="3060360"/>
            <a:ext cx="53352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848040" y="2298240"/>
            <a:ext cx="533160" cy="48240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71880" y="1346040"/>
            <a:ext cx="2095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62440" y="1346040"/>
            <a:ext cx="139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58920" y="3848040"/>
            <a:ext cx="219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1360" y="3860640"/>
            <a:ext cx="139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89320" y="3301920"/>
            <a:ext cx="2311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1866960"/>
            <a:ext cx="2235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46320" y="3289320"/>
            <a:ext cx="673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854360"/>
            <a:ext cx="69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146320" y="2540160"/>
            <a:ext cx="172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240048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269244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75320" y="13334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1879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32240" y="2692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34320" y="36082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57720" y="30495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91560" y="2389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61600" y="111924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34240" y="1639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4040" y="110664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81560" y="3659040"/>
            <a:ext cx="7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7760" y="4627440"/>
            <a:ext cx="742536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r is essentially two parallel single ended buffers (D+ &amp; D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 has 2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parallel single ended buffers carrying complementary signals (Rx+ &amp; Rx-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receiver (R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s at both the driver and receiver side a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ll swing sign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1219320"/>
            <a:ext cx="54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46640" y="2502000"/>
            <a:ext cx="546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9600" y="2260440"/>
            <a:ext cx="558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600" y="1168560"/>
            <a:ext cx="533160" cy="342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3670200"/>
            <a:ext cx="533160" cy="343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7920" y="33148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B9A-06A1-4801-92E9-5DCE2736AE5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DAA6EE7-B51D-48FE-B0E3-81FF19F8D9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keleton of USB IBIS mod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1680" y="944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IBIS 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      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4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anufacturer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NXP Semicondu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4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4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Pin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_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_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p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_p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_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_speed_buffer_D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0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_speed_buffer_D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0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Diff Pin]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_pin      vdiff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elay_typ      tdelay_min     tdelay_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200m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odel Selector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o_speed_buffer_D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3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B_F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speed operation of U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B_L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speed operation of U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2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Model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USB_FS | of u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_type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arit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Non-Inve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able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Active-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 Reciever Thres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n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= 0.8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USB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5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nh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= 2.0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USB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3A9-536B-459E-BD4F-9087DBB5D0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B9F5932-B460-4719-9D52-4B56AFD5CF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2040" y="279360"/>
            <a:ext cx="835992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iver Oper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2040" y="969840"/>
            <a:ext cx="8359920" cy="50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is essentially 2 parallel single ended dri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ion of I-V and V-t data can be done individ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four I-V curves [Gnd Clamp] [Power Clamp] [Pullup] &amp; [Pulldown] are extracted for each pin by considering each one as a separate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ly V-t curves [Rising Waveform] &amp; [Falling Waveform] can be done. R_fixture has to be 45 ohm as the USB line will be terminated with 45 ohm Single ende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5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_comp can be calculated separately for each p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742-17F0-4FC4-864B-0E0A8966AD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1CF27FE-0E1F-4649-B821-92BFE2EC8E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2040" y="279000"/>
            <a:ext cx="83599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eiver Operation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rt 1 : Single Ended Receiv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3225600" y="2006280"/>
            <a:ext cx="53352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3187440" y="3454200"/>
            <a:ext cx="533520" cy="4827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3695760"/>
            <a:ext cx="2311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59120" y="2260440"/>
            <a:ext cx="2235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65360" y="3683160"/>
            <a:ext cx="673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2760" y="2247840"/>
            <a:ext cx="698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6760" y="34434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53280" y="2033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56200" y="200808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06960" y="2044800"/>
            <a:ext cx="533520" cy="342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52960" y="3481560"/>
            <a:ext cx="7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3492360"/>
            <a:ext cx="533160" cy="343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3640" y="4351320"/>
            <a:ext cx="741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at Rx+ (Rx-) will be low only when  signal at D+ (D-) is below 0.8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at Rx+ (Rx-) will be high only when  signal at D+ (D-) is above 2.0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steresis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06D-193C-4BF2-ABFA-43FDA0AF9F1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5F6370D-B84E-4861-89CA-FB9A22C396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291960"/>
            <a:ext cx="8359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rt 2 : Differential Receiv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17600" y="2417760"/>
          <a:ext cx="8003880" cy="2690640"/>
        </p:xfrm>
        <a:graphic>
          <a:graphicData uri="http://schemas.openxmlformats.org/drawingml/2006/table">
            <a:tbl>
              <a:tblPr/>
              <a:tblGrid>
                <a:gridCol w="2667600"/>
                <a:gridCol w="2668680"/>
                <a:gridCol w="2667600"/>
              </a:tblGrid>
              <a:tr h="537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VR=((D+)+(D-))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 = (D+)-(D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CMVR≤2.5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200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(core logic HIG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CMVR≤2.5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-200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(core logic LOW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Diff|&lt;200m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V&gt;CMVR&gt;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635040" y="5440320"/>
            <a:ext cx="3871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VR = Common Mode Voltag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 = Input Sensi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038480" y="1308240"/>
            <a:ext cx="533520" cy="48240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336760" y="1549440"/>
            <a:ext cx="172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6440" y="140976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46440" y="1701720"/>
            <a:ext cx="863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888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23040" y="17017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82360" y="13096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73800" y="82692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11960" y="851040"/>
            <a:ext cx="533160" cy="342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9800" y="1982880"/>
            <a:ext cx="7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1994040"/>
            <a:ext cx="533520" cy="342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C9F-613A-4E29-9BA8-53F59FAB589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32B10C3-22A3-4204-84CA-30C3F1F9FF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1:40:17Z</dcterms:created>
  <dc:creator/>
  <dc:description/>
  <dc:language>en-US</dc:language>
  <cp:lastModifiedBy/>
  <dcterms:modified xsi:type="dcterms:W3CDTF">2007-01-29T09:49:58Z</dcterms:modified>
  <cp:revision>390</cp:revision>
  <dc:subject>Guidelines for presentations</dc:subject>
  <dc:title>NXP PowerPoint template (Title) Template for presentations (Subtitle)</dc:title>
</cp:coreProperties>
</file>